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8773-50CD-4AC6-9FAF-C5B5252B2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7C08-3472-4826-90AE-CE912674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EA23-4F95-4DC0-8D4D-7E25321DF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766D-A283-4266-9BC5-7C57AE853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3DB1-8198-4E42-B196-AC48E078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FF7C-ACC2-446F-8A64-44BCFDBC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FE50-5965-4F93-AE90-F09084D8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8EE0-83CF-4517-8A9F-7BF04DCD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540C-650E-4536-8F88-EDD33E7A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1E55-EF3E-4A61-8136-6C88F803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D00A-5D38-42E5-89BA-A0710601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A276-467D-4C14-BF76-D85A5943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EE7F-57FA-4952-9E64-847D2C348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ivil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History – Chapter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ancipation Procla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clamation (a formal public statement ) issued by President Lincoln in September, 1862, effective January 1, 1863, freeing the slaves in all territory still at war with the Un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*Only Confederate slaves were fre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 – give the Union a moral 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380880"/>
            <a:ext cx="838224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42800"/>
                </a:solidFill>
                <a:latin typeface="Baskerville Old Face"/>
              </a:rPr>
              <a:t>Emancipation in 186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rcRect l="1252" t="8620" r="0" b="4683"/>
          <a:stretch/>
        </p:blipFill>
        <p:spPr>
          <a:xfrm>
            <a:off x="533520" y="1444680"/>
            <a:ext cx="807696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6320" y="152280"/>
            <a:ext cx="8991360" cy="137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d42800"/>
                </a:solidFill>
                <a:latin typeface="Baskerville Old Face"/>
              </a:rPr>
              <a:t>The Southern View of Emancip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2784" t="0" r="2784" b="0"/>
          <a:stretch/>
        </p:blipFill>
        <p:spPr>
          <a:xfrm>
            <a:off x="1143000" y="1079640"/>
            <a:ext cx="6934320" cy="5244840"/>
          </a:xfrm>
          <a:prstGeom prst="rect">
            <a:avLst/>
          </a:prstGeom>
          <a:ln w="9360">
            <a:solidFill>
              <a:srgbClr val="00297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152280"/>
            <a:ext cx="838224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42800"/>
                </a:solidFill>
                <a:latin typeface="Baskerville Old Face"/>
              </a:rPr>
              <a:t>The Road to Gettysburg:  186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0880" y="1546200"/>
            <a:ext cx="4648320" cy="4626000"/>
          </a:xfrm>
          <a:prstGeom prst="rect">
            <a:avLst/>
          </a:prstGeom>
          <a:ln w="9360">
            <a:solidFill>
              <a:srgbClr val="00297c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5330880" y="1295280"/>
            <a:ext cx="3508200" cy="5105520"/>
          </a:xfrm>
          <a:prstGeom prst="rect">
            <a:avLst/>
          </a:prstGeom>
          <a:ln w="9360">
            <a:solidFill>
              <a:srgbClr val="00297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rcRect l="1853" t="4550" r="1853" b="5833"/>
          <a:stretch/>
        </p:blipFill>
        <p:spPr>
          <a:xfrm>
            <a:off x="609480" y="1981080"/>
            <a:ext cx="7925040" cy="3657600"/>
          </a:xfrm>
          <a:prstGeom prst="rect">
            <a:avLst/>
          </a:prstGeom>
          <a:ln w="9360">
            <a:solidFill>
              <a:srgbClr val="00297c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380880" y="395280"/>
            <a:ext cx="838224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42800"/>
                </a:solidFill>
                <a:latin typeface="Baskerville Old Face"/>
              </a:rPr>
              <a:t>Gettysburg Casualt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ysburg Add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 score and seven years ago our fathers brought forth on this continent, a new nation, conceived in Liberty, and dedicated to the proposition that all men are created equa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pose of the Introduc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Gettysburg Add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we are engaged in a great civil war, testing whether that nation, or any nation so conceived and so dedicated, can long endure. We are met on a great battle-field of that war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nse of War (Survival of the UNI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 of the Gettysburg Add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rather for us to be here dedicated to the great task remaining before us -- that from these honored dead we take increased devotion to that cause for which they gave the last full measure of devotion -- that we here highly resolve that these dead shall not have died in vain -- that this nation, under God, shall have a new birth of freedom -- and that government of the people, by the people, for the people, shall not perish from the earth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228600"/>
            <a:ext cx="838224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42800"/>
                </a:solidFill>
                <a:latin typeface="Baskerville Old Face"/>
              </a:rPr>
              <a:t>The Progress of War:  1861-18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rcRect l="0" t="23223" r="0" b="0"/>
          <a:stretch/>
        </p:blipFill>
        <p:spPr>
          <a:xfrm>
            <a:off x="609480" y="1219320"/>
            <a:ext cx="8001000" cy="5032080"/>
          </a:xfrm>
          <a:prstGeom prst="rect">
            <a:avLst/>
          </a:prstGeom>
          <a:ln w="9360">
            <a:solidFill>
              <a:srgbClr val="00297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 of the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omattox – Lee surrenders 4/9/18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coln assassinated – 4/14/18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se thing that could have happened to the Sou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3124080"/>
            <a:ext cx="9144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e Civil War affect the United States and its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152280"/>
            <a:ext cx="838224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42800"/>
                </a:solidFill>
                <a:latin typeface="Arial Narrow"/>
              </a:rPr>
              <a:t>Casualties on Both Sid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rcRect l="0" t="0" r="0" b="15948"/>
          <a:stretch/>
        </p:blipFill>
        <p:spPr>
          <a:xfrm>
            <a:off x="1219320" y="1143000"/>
            <a:ext cx="6858000" cy="5346720"/>
          </a:xfrm>
          <a:prstGeom prst="rect">
            <a:avLst/>
          </a:prstGeom>
          <a:ln w="9360">
            <a:solidFill>
              <a:srgbClr val="00297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0880" y="152280"/>
            <a:ext cx="838224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42800"/>
                </a:solidFill>
                <a:latin typeface="Baskerville Old Face"/>
              </a:rPr>
              <a:t>Civil War Casualties</a:t>
            </a:r>
            <a:br>
              <a:rPr sz="4800"/>
            </a:br>
            <a:r>
              <a:rPr b="1" lang="en-US" sz="4800" spc="-1" strike="noStrike">
                <a:solidFill>
                  <a:srgbClr val="d42800"/>
                </a:solidFill>
                <a:latin typeface="Baskerville Old Face"/>
              </a:rPr>
              <a:t>in Comparison to Other Wa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2259000"/>
            <a:ext cx="8153280" cy="3836880"/>
          </a:xfrm>
          <a:prstGeom prst="rect">
            <a:avLst/>
          </a:prstGeom>
          <a:ln w="12600">
            <a:solidFill>
              <a:srgbClr val="00297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rt of the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78040" y="1600200"/>
            <a:ext cx="3787920" cy="4525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44240" y="2475000"/>
            <a:ext cx="18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Confed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s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600200" y="2819160"/>
            <a:ext cx="20574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 War Charts and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xt two slides show important information about the North and S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Civil War Pack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three things that would help the N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three things that would help the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-44280"/>
            <a:ext cx="9144000" cy="69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al 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rve 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Slave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military l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ns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’s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n idea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514440"/>
            <a:ext cx="3276720" cy="632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42800"/>
                </a:solidFill>
                <a:latin typeface="Baskerville Old Face"/>
              </a:rPr>
              <a:t>Overview</a:t>
            </a:r>
            <a:br>
              <a:rPr sz="4800"/>
            </a:br>
            <a:r>
              <a:rPr b="1" lang="en-US" sz="4800" spc="-1" strike="noStrike">
                <a:solidFill>
                  <a:srgbClr val="d42800"/>
                </a:solidFill>
                <a:latin typeface="Baskerville Old Face"/>
              </a:rPr>
              <a:t>of</a:t>
            </a:r>
            <a:br>
              <a:rPr sz="4800"/>
            </a:br>
            <a:r>
              <a:rPr b="1" lang="en-US" sz="4800" spc="-1" strike="noStrike">
                <a:solidFill>
                  <a:srgbClr val="d42800"/>
                </a:solidFill>
                <a:latin typeface="Baskerville Old Face"/>
              </a:rPr>
              <a:t>Civil War</a:t>
            </a:r>
            <a:br>
              <a:rPr sz="4800"/>
            </a:br>
            <a:r>
              <a:rPr b="1" lang="en-US" sz="4800" spc="-1" strike="noStrike">
                <a:solidFill>
                  <a:srgbClr val="d42800"/>
                </a:solidFill>
                <a:latin typeface="Baskerville Old Face"/>
              </a:rPr>
              <a:t>Strategy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d42800"/>
                </a:solidFill>
                <a:latin typeface="Baskerville Old Face"/>
              </a:rPr>
              <a:t>“</a:t>
            </a:r>
            <a:r>
              <a:rPr b="1" lang="en-US" sz="4800" spc="-1" strike="noStrike">
                <a:solidFill>
                  <a:srgbClr val="d42800"/>
                </a:solidFill>
                <a:latin typeface="Baskerville Old Face"/>
              </a:rPr>
              <a:t>Anaconda”</a:t>
            </a:r>
            <a:br>
              <a:rPr sz="4800"/>
            </a:br>
            <a:r>
              <a:rPr b="1" lang="en-US" sz="4800" spc="-1" strike="noStrike">
                <a:solidFill>
                  <a:srgbClr val="d42800"/>
                </a:solidFill>
                <a:latin typeface="Baskerville Old Face"/>
              </a:rPr>
              <a:t>Pl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789360" y="228600"/>
            <a:ext cx="49737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19:14:44Z</dcterms:created>
  <dc:creator> </dc:creator>
  <dc:description/>
  <dc:language>en-US</dc:language>
  <cp:lastModifiedBy>School District U46</cp:lastModifiedBy>
  <dcterms:modified xsi:type="dcterms:W3CDTF">2010-09-08T21:29:56Z</dcterms:modified>
  <cp:revision>13</cp:revision>
  <dc:subject/>
  <dc:title>The Civil War</dc:title>
</cp:coreProperties>
</file>